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48EA-7AD0-48D7-A0ED-DABB3C55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F7B3-97C2-4D12-A7BF-DD41C04B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0D5E-5971-4F64-B19F-730AA243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D24-2DE6-4F7D-85BE-41094FB5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F9D2-3392-4818-8D32-04868707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6796-F4CD-47AB-BB69-7F186101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7E7C-7EE7-4297-94B1-358E1A98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BA6A-A1C3-42EE-82A7-5DFC5798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D997-0456-4144-BF8C-F86225A4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911-8C8C-4B86-96A1-51A440A3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E02D-3E2F-4B20-89A3-0B21CBDB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C56B-EC05-40B5-B8E5-BD21390F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9314-ECFA-4D20-8A5A-6F854B3DD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6019920"/>
            <a:ext cx="5715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o stole th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okies from the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okie jar?</a:t>
            </a:r>
            <a:br>
              <a:rPr sz="54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5257800"/>
            <a:ext cx="6858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a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tole the cook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the cookie jar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m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s, you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Not me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n wh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143000"/>
            <a:ext cx="617220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ert Child’s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ictur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520" y="6386400"/>
            <a:ext cx="6210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okie Monster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stole the cook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om the cookie ja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Cookie Monster"/>
          <p:cNvPicPr/>
          <p:nvPr/>
        </p:nvPicPr>
        <p:blipFill>
          <a:blip r:embed="rId1"/>
          <a:stretch/>
        </p:blipFill>
        <p:spPr>
          <a:xfrm>
            <a:off x="685800" y="457200"/>
            <a:ext cx="5486400" cy="538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520" y="1219320"/>
            <a:ext cx="6819840" cy="708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4647960"/>
            <a:ext cx="6858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orinna BT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a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tole the cook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the cookie jar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m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s, you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Not me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n wh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80520" y="1142640"/>
            <a:ext cx="617220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ert Child’s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ictur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257800"/>
            <a:ext cx="6858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a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tole the cook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the cookie jar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m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s, you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Not me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n wh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143000"/>
            <a:ext cx="617220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ert Child’s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ictur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518148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a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tole the cook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the cookie jar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m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s, you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Not me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n wh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617220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ert Child’s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ictur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5181480"/>
            <a:ext cx="68580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a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tole the cookies from the cookie jar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m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s, you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Not me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n wh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143000"/>
            <a:ext cx="617220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ert Child’s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ictur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181120"/>
            <a:ext cx="68580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a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tole the cookies from the cookie jar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m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s, you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Not me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n wh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143000"/>
            <a:ext cx="617220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ert Child’s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ictur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5029200"/>
            <a:ext cx="6858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a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tole the cookies from the cookie jar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m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s, you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Not me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n wh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143000"/>
            <a:ext cx="617220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ert Child’s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ictur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5181120"/>
            <a:ext cx="68580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a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tole the cookies from the cookie jar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m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s, you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Not me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n wh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143000"/>
            <a:ext cx="617220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ert Child’s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ictur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5334120"/>
            <a:ext cx="6858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a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tole the cook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the cookie jar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m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s, you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Not me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n wh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143000"/>
            <a:ext cx="617220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sert Child’s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ictur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4:09:15Z</dcterms:created>
  <dc:creator>Amy Novak</dc:creator>
  <dc:description/>
  <dc:language>en-US</dc:language>
  <cp:lastModifiedBy>Patti Porto</cp:lastModifiedBy>
  <dcterms:modified xsi:type="dcterms:W3CDTF">2008-01-24T04:02:03Z</dcterms:modified>
  <cp:revision>22</cp:revision>
  <dc:subject/>
  <dc:title>Who Stole the Cookies from the  Cookie Jar?</dc:title>
</cp:coreProperties>
</file>